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30e7d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A7B8-6FDC-4FC5-92E4-837B161FBB4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8B82E-66C9-4ABC-A14A-5ED9C918561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425E4-F211-412B-B25B-7A2A81BADD8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72D12-2FB0-42B6-925D-F28AE962CB9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866A1-E20C-44F3-8329-A33B6B3AD69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Text Box 4"/>
          <p:cNvSpPr/>
          <p:nvPr/>
        </p:nvSpPr>
        <p:spPr>
          <a:xfrm>
            <a:off x="1203480" y="46594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20760-34F9-4D0D-B19A-C7135ACFEE7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Text Box 4"/>
          <p:cNvSpPr/>
          <p:nvPr/>
        </p:nvSpPr>
        <p:spPr>
          <a:xfrm>
            <a:off x="1203480" y="46594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14E66-143B-41FE-96A7-7151FE356ED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2FD8D-44E3-4C86-B3AE-BCC8716450A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971E8-AB8F-4B85-982F-A675BF0DCFA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57840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8270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8270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5784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5784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5784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82700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187280"/>
            <a:ext cx="777240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57840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1371600" y="85680"/>
            <a:ext cx="7772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MS Pゴシック"/>
              </a:rPr>
              <a:t>TEKS 8C: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  <a:ea typeface="MS Pゴシック"/>
              </a:rPr>
              <a:t>Calculate percent composition and empirical and molecular formula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30e7d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700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5" descr="PE_Anc_CopyrightLine_GS"/>
          <p:cNvPicPr/>
          <p:nvPr/>
        </p:nvPicPr>
        <p:blipFill>
          <a:blip r:embed="rId2"/>
          <a:stretch/>
        </p:blipFill>
        <p:spPr>
          <a:xfrm>
            <a:off x="8915400" y="1828800"/>
            <a:ext cx="93600" cy="32796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cd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" name="Picture 9" descr="PE_Anc_CopyrightLine_GS"/>
          <p:cNvPicPr/>
          <p:nvPr/>
        </p:nvPicPr>
        <p:blipFill>
          <a:blip r:embed="rId3"/>
          <a:stretch/>
        </p:blipFill>
        <p:spPr>
          <a:xfrm>
            <a:off x="8915400" y="1828800"/>
            <a:ext cx="93600" cy="32796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0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c515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" name="Picture 9" descr="top_arch2"/>
          <p:cNvPicPr/>
          <p:nvPr/>
        </p:nvPicPr>
        <p:blipFill>
          <a:blip r:embed="rId4"/>
          <a:stretch/>
        </p:blipFill>
        <p:spPr>
          <a:xfrm>
            <a:off x="0" y="0"/>
            <a:ext cx="9144000" cy="107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MS Pゴシック"/>
              </a:rPr>
              <a:t>Wilson Administration</a:t>
            </a:r>
            <a:endParaRPr b="1" lang="en-US" sz="2800" spc="-1" strike="noStrike">
              <a:solidFill>
                <a:srgbClr val="130e7d"/>
              </a:solidFill>
              <a:latin typeface="Arial"/>
            </a:endParaRPr>
          </a:p>
        </p:txBody>
      </p:sp>
      <p:pic>
        <p:nvPicPr>
          <p:cNvPr id="52" name="Picture 7" descr="2696038_edit"/>
          <p:cNvPicPr/>
          <p:nvPr/>
        </p:nvPicPr>
        <p:blipFill>
          <a:blip r:embed="rId1"/>
          <a:stretch/>
        </p:blipFill>
        <p:spPr>
          <a:xfrm>
            <a:off x="3352680" y="2286000"/>
            <a:ext cx="24130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AutoShape 10"/>
          <p:cNvSpPr/>
          <p:nvPr/>
        </p:nvSpPr>
        <p:spPr>
          <a:xfrm flipH="1" rot="10800000">
            <a:off x="1104840" y="1294920"/>
            <a:ext cx="6934320" cy="2514600"/>
          </a:xfrm>
          <a:prstGeom prst="upArrowCallout">
            <a:avLst>
              <a:gd name="adj1" fmla="val 40628"/>
              <a:gd name="adj2" fmla="val 42896"/>
              <a:gd name="adj3" fmla="val 27056"/>
              <a:gd name="adj4" fmla="val 66151"/>
            </a:avLst>
          </a:prstGeom>
          <a:gradFill rotWithShape="0">
            <a:gsLst>
              <a:gs pos="0">
                <a:srgbClr val="ffcc66">
                  <a:alpha val="97254"/>
                </a:srgbClr>
              </a:gs>
              <a:gs pos="100000">
                <a:srgbClr val="e8eae9"/>
              </a:gs>
            </a:gsLst>
            <a:lin ang="162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1295280" y="1371600"/>
            <a:ext cx="6705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Wilson pushed Congress to pass the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Federal Reserve Ac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of 1913. It established a system of regional banks to hold reserve funds for the nation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 commercial bank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1371600" y="3809880"/>
            <a:ext cx="6629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ill in place today, the Federal Reserve protects the American economy from having too much money end up in the hands of one person, bank, or regi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1371600" y="541008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Previously, a few wealthy bankers could manipulate interest rates for their own profi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6"/>
          <p:cNvSpPr/>
          <p:nvPr/>
        </p:nvSpPr>
        <p:spPr>
          <a:xfrm flipH="1" rot="10800000">
            <a:off x="746280" y="1424160"/>
            <a:ext cx="7619760" cy="1852560"/>
          </a:xfrm>
          <a:prstGeom prst="upArrowCallout">
            <a:avLst>
              <a:gd name="adj1" fmla="val 36336"/>
              <a:gd name="adj2" fmla="val 33647"/>
              <a:gd name="adj3" fmla="val 24505"/>
              <a:gd name="adj4" fmla="val 66059"/>
            </a:avLst>
          </a:prstGeom>
          <a:gradFill rotWithShape="0">
            <a:gsLst>
              <a:gs pos="0">
                <a:srgbClr val="cdcdff">
                  <a:alpha val="62352"/>
                </a:srgbClr>
              </a:gs>
              <a:gs pos="100000">
                <a:srgbClr val="e8eae9"/>
              </a:gs>
            </a:gsLst>
            <a:lin ang="162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855720" y="1676520"/>
            <a:ext cx="745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Wilson strengthened antitrust laws. Like Roosevelt, he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focused on trusts that used unfair practic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1447920" y="5029200"/>
            <a:ext cx="6400800" cy="1099440"/>
          </a:xfrm>
          <a:prstGeom prst="rect">
            <a:avLst/>
          </a:prstGeom>
          <a:solidFill>
            <a:srgbClr val="e8eae9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till in effect today, the FTC also prosecutes dishonest stock traders and regulates Internet sal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1447920" y="3352680"/>
            <a:ext cx="6248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Federal Trade Commission (FTC)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as created in 1914 to monitor businesses to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prevent monopolies, false advertising, and dishonest labeling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9" descr="Parchment2"/>
          <p:cNvPicPr/>
          <p:nvPr/>
        </p:nvPicPr>
        <p:blipFill>
          <a:blip r:embed="rId1">
            <a:lum bright="4000"/>
          </a:blip>
          <a:stretch/>
        </p:blipFill>
        <p:spPr>
          <a:xfrm>
            <a:off x="838080" y="1523880"/>
            <a:ext cx="4419720" cy="426744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2"/>
          <p:cNvSpPr/>
          <p:nvPr/>
        </p:nvSpPr>
        <p:spPr>
          <a:xfrm>
            <a:off x="1360440" y="2286000"/>
            <a:ext cx="31240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In 1914, the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Clayton Antitrust Act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defined specific activities in which businesses could not engag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5105520" y="2514600"/>
            <a:ext cx="3429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he Clayton Act also protected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union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from being defined as trusts, allowing them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more freedom to organize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4"/>
          <p:cNvSpPr/>
          <p:nvPr/>
        </p:nvSpPr>
        <p:spPr>
          <a:xfrm flipH="1" rot="5400000">
            <a:off x="1027800" y="1485720"/>
            <a:ext cx="3200400" cy="3429000"/>
          </a:xfrm>
          <a:prstGeom prst="upArrowCallout">
            <a:avLst>
              <a:gd name="adj1" fmla="val 13103"/>
              <a:gd name="adj2" fmla="val 12204"/>
              <a:gd name="adj3" fmla="val 18169"/>
              <a:gd name="adj4" fmla="val 42341"/>
            </a:avLst>
          </a:prstGeom>
          <a:gradFill rotWithShape="0">
            <a:gsLst>
              <a:gs pos="0">
                <a:srgbClr val="00b0f0">
                  <a:alpha val="50196"/>
                </a:srgbClr>
              </a:gs>
              <a:gs pos="100000">
                <a:srgbClr val="e8eae9"/>
              </a:gs>
            </a:gsLst>
            <a:lin ang="189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1295280" y="1981080"/>
            <a:ext cx="20574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Wilson passed several Progressive laws that supported work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419720" y="1685880"/>
            <a:ext cx="4038480" cy="27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Aft>
                <a:spcPts val="20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In 1916, the Workingman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s Compensation Act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provided wages for temporarily disabled civil service employe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20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In 1916, the Adamson Act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provided an eight-hour day for railway work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ounded Rectangle 7"/>
          <p:cNvSpPr/>
          <p:nvPr/>
        </p:nvSpPr>
        <p:spPr>
          <a:xfrm>
            <a:off x="870120" y="1066680"/>
            <a:ext cx="739116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dcdff">
                  <a:alpha val="62352"/>
                </a:srgbClr>
              </a:gs>
              <a:gs pos="100000">
                <a:srgbClr val="e8eae9"/>
              </a:gs>
            </a:gsLst>
            <a:lin ang="54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1828800" y="2438280"/>
            <a:ext cx="5551560" cy="39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Aft>
                <a:spcPts val="1687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In 1913, </a:t>
            </a:r>
            <a:r>
              <a:rPr b="0" lang="en-US" sz="1800" spc="-1" strike="noStrike">
                <a:solidFill>
                  <a:srgbClr val="0033cc"/>
                </a:solidFill>
                <a:latin typeface="Verdana"/>
                <a:ea typeface="Arial"/>
              </a:rPr>
              <a:t>coal miners went on strike</a:t>
            </a:r>
            <a:r>
              <a:rPr b="0" lang="en-US" sz="1800" spc="-1" strike="noStrike">
                <a:solidFill>
                  <a:srgbClr val="0066cc"/>
                </a:solidFill>
                <a:latin typeface="Verdana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in Ludlow, Colorad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1687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The </a:t>
            </a:r>
            <a:r>
              <a:rPr b="0" lang="en-US" sz="1800" spc="-1" strike="noStrike">
                <a:solidFill>
                  <a:srgbClr val="0033cc"/>
                </a:solidFill>
                <a:latin typeface="Verdana"/>
                <a:ea typeface="Arial"/>
              </a:rPr>
              <a:t>company refused their demands</a:t>
            </a:r>
            <a:r>
              <a:rPr b="0" lang="en-US" sz="1800" spc="-1" strike="noStrike">
                <a:solidFill>
                  <a:srgbClr val="0066cc"/>
                </a:solidFill>
                <a:latin typeface="Verdana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and evicted workers from company housi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1687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Verdana"/>
                <a:ea typeface="Arial"/>
              </a:rPr>
              <a:t>Workers set up tents</a:t>
            </a:r>
            <a:r>
              <a:rPr b="0" lang="en-US" sz="1800" spc="-1" strike="noStrike">
                <a:solidFill>
                  <a:srgbClr val="0066cc"/>
                </a:solidFill>
                <a:latin typeface="Verdana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outside the company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1687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The Colorado National Guard was call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1687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The Guardsmen fired on the tents and </a:t>
            </a:r>
            <a:r>
              <a:rPr b="0" lang="en-US" sz="1800" spc="-1" strike="noStrike">
                <a:solidFill>
                  <a:srgbClr val="0033cc"/>
                </a:solidFill>
                <a:latin typeface="Verdana"/>
                <a:ea typeface="Arial"/>
              </a:rPr>
              <a:t>killed twenty-six peopl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1687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Wilson sent federal troops to restore order and break up the strik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295280" y="1295280"/>
            <a:ext cx="65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Wilson did not always support workers, as the tragic Ludlow Massacre show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9"/>
          <p:cNvSpPr/>
          <p:nvPr/>
        </p:nvSpPr>
        <p:spPr>
          <a:xfrm>
            <a:off x="990720" y="3197160"/>
            <a:ext cx="7315200" cy="305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000">
                  <a:alpha val="55294"/>
                </a:srgbClr>
              </a:gs>
              <a:gs pos="100000">
                <a:srgbClr val="e8eae9"/>
              </a:gs>
            </a:gsLst>
            <a:lin ang="13500000"/>
          </a:gradFill>
          <a:ln w="9360">
            <a:solidFill>
              <a:srgbClr val="ccccff"/>
            </a:solidFill>
            <a:miter/>
          </a:ln>
          <a:effectLst>
            <a:outerShdw dist="125751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AutoShape 6"/>
          <p:cNvSpPr/>
          <p:nvPr/>
        </p:nvSpPr>
        <p:spPr>
          <a:xfrm flipH="1" rot="10800000">
            <a:off x="838800" y="1219320"/>
            <a:ext cx="7391160" cy="1828800"/>
          </a:xfrm>
          <a:prstGeom prst="upArrowCallout">
            <a:avLst>
              <a:gd name="adj1" fmla="val 51684"/>
              <a:gd name="adj2" fmla="val 41033"/>
              <a:gd name="adj3" fmla="val 24505"/>
              <a:gd name="adj4" fmla="val 77709"/>
            </a:avLst>
          </a:prstGeom>
          <a:gradFill rotWithShape="0">
            <a:gsLst>
              <a:gs pos="0">
                <a:srgbClr val="cdcdff">
                  <a:alpha val="62352"/>
                </a:srgbClr>
              </a:gs>
              <a:gs pos="100000">
                <a:srgbClr val="e8eae9"/>
              </a:gs>
            </a:gsLst>
            <a:lin ang="162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4495680" y="3417840"/>
            <a:ext cx="3886200" cy="24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The federal governme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offered more protection to Americans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private liv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while at the same time, gained more control over people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s liv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1143000" y="1371600"/>
            <a:ext cx="70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he Progressive Era had a lasting effect on government, the economy, and societ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1371600" y="3425760"/>
            <a:ext cx="3429000" cy="20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Political reforms included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Aft>
                <a:spcPts val="10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initiati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Aft>
                <a:spcPts val="10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referendu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Aft>
                <a:spcPts val="10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recall</a:t>
            </a:r>
            <a:r>
              <a:rPr b="0" lang="en-US" sz="2000" spc="-1" strike="noStrike">
                <a:solidFill>
                  <a:srgbClr val="0066cc"/>
                </a:solidFill>
                <a:latin typeface="Verdan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Aft>
                <a:spcPts val="10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19th Amend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Straight Connector 11"/>
          <p:cNvSpPr/>
          <p:nvPr/>
        </p:nvSpPr>
        <p:spPr>
          <a:xfrm>
            <a:off x="1143000" y="4114800"/>
            <a:ext cx="701028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Straight Connector 13"/>
          <p:cNvSpPr/>
          <p:nvPr/>
        </p:nvSpPr>
        <p:spPr>
          <a:xfrm>
            <a:off x="4343400" y="3351240"/>
            <a:ext cx="0" cy="26686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762120" y="1600200"/>
            <a:ext cx="7467480" cy="4419720"/>
          </a:xfrm>
          <a:prstGeom prst="rect">
            <a:avLst/>
          </a:prstGeom>
          <a:gradFill rotWithShape="0">
            <a:gsLst>
              <a:gs pos="0">
                <a:srgbClr val="e8eae9"/>
              </a:gs>
              <a:gs pos="100000">
                <a:srgbClr val="c9c9ff"/>
              </a:gs>
            </a:gsLst>
            <a:lin ang="5400000"/>
          </a:gradFill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39"/>
          <p:cNvSpPr/>
          <p:nvPr/>
        </p:nvSpPr>
        <p:spPr>
          <a:xfrm>
            <a:off x="533520" y="11430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Progressive Era Legislation and Amendme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006560" y="1596960"/>
          <a:ext cx="7162560" cy="609840"/>
        </p:xfrm>
        <a:graphic>
          <a:graphicData uri="http://schemas.openxmlformats.org/drawingml/2006/table">
            <a:tbl>
              <a:tblPr/>
              <a:tblGrid>
                <a:gridCol w="2954160"/>
                <a:gridCol w="4208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Sherman Antitrust Act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(189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666699"/>
                      </a:solidFill>
                    </a:lnR>
                    <a:lnT>
                      <a:noFill/>
                    </a:lnT>
                    <a:lnB w="288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Outlawed monopolies and practices that restrained tra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6666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66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1006560" y="2238480"/>
          <a:ext cx="7162560" cy="579240"/>
        </p:xfrm>
        <a:graphic>
          <a:graphicData uri="http://schemas.openxmlformats.org/drawingml/2006/table">
            <a:tbl>
              <a:tblPr/>
              <a:tblGrid>
                <a:gridCol w="2954160"/>
                <a:gridCol w="4208400"/>
              </a:tblGrid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l Reclamation Act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0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666699"/>
                      </a:solidFill>
                    </a:lnR>
                    <a:lnT>
                      <a:noFill/>
                    </a:lnT>
                    <a:lnB w="288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vided for federal irrigation projects in arid Western sta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6666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66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1006560" y="2860560"/>
          <a:ext cx="7162560" cy="622440"/>
        </p:xfrm>
        <a:graphic>
          <a:graphicData uri="http://schemas.openxmlformats.org/drawingml/2006/table">
            <a:tbl>
              <a:tblPr/>
              <a:tblGrid>
                <a:gridCol w="2954160"/>
                <a:gridCol w="4208400"/>
              </a:tblGrid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Elkins Ac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(190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666699"/>
                      </a:solidFill>
                    </a:lnR>
                    <a:lnT>
                      <a:noFill/>
                    </a:lnT>
                    <a:lnB w="288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Imposed fines on railroads that gave special rates to favored shipp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6666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66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1006560" y="3519360"/>
          <a:ext cx="7162560" cy="549360"/>
        </p:xfrm>
        <a:graphic>
          <a:graphicData uri="http://schemas.openxmlformats.org/drawingml/2006/table">
            <a:tbl>
              <a:tblPr/>
              <a:tblGrid>
                <a:gridCol w="2954160"/>
                <a:gridCol w="420840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Hepburn Ac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(190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666699"/>
                      </a:solidFill>
                    </a:lnR>
                    <a:lnT>
                      <a:noFill/>
                    </a:lnT>
                    <a:lnB w="288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Allowed the government to regulate and sets maximum rates for railroa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6666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66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1006560" y="4098960"/>
          <a:ext cx="7162560" cy="614160"/>
        </p:xfrm>
        <a:graphic>
          <a:graphicData uri="http://schemas.openxmlformats.org/drawingml/2006/table">
            <a:tbl>
              <a:tblPr/>
              <a:tblGrid>
                <a:gridCol w="2954160"/>
                <a:gridCol w="4208400"/>
              </a:tblGrid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Meat Inspection Ac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(190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666699"/>
                      </a:solidFill>
                    </a:lnR>
                    <a:lnT>
                      <a:noFill/>
                    </a:lnT>
                    <a:lnB w="288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Provided federal inspection of packing plants and meat sold across state li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6666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66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1006560" y="4740120"/>
          <a:ext cx="7162560" cy="655920"/>
        </p:xfrm>
        <a:graphic>
          <a:graphicData uri="http://schemas.openxmlformats.org/drawingml/2006/table">
            <a:tbl>
              <a:tblPr/>
              <a:tblGrid>
                <a:gridCol w="2954160"/>
                <a:gridCol w="4208400"/>
              </a:tblGrid>
              <a:tr h="65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Pure Food and Drug Ac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(190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666699"/>
                      </a:solidFill>
                    </a:lnR>
                    <a:lnT>
                      <a:noFill/>
                    </a:lnT>
                    <a:lnB w="288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Provided federal inspection of foods, medicines for pur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6666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66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1006560" y="5445000"/>
          <a:ext cx="7162560" cy="549360"/>
        </p:xfrm>
        <a:graphic>
          <a:graphicData uri="http://schemas.openxmlformats.org/drawingml/2006/table">
            <a:tbl>
              <a:tblPr/>
              <a:tblGrid>
                <a:gridCol w="2954160"/>
                <a:gridCol w="420840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Sixteenth  Amendmen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(191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6666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Gave Congress the power to collect an income ta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6666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762120" y="1600200"/>
            <a:ext cx="7467480" cy="4419720"/>
          </a:xfrm>
          <a:prstGeom prst="rect">
            <a:avLst/>
          </a:prstGeom>
          <a:gradFill rotWithShape="0">
            <a:gsLst>
              <a:gs pos="0">
                <a:srgbClr val="e8eae9"/>
              </a:gs>
              <a:gs pos="100000">
                <a:srgbClr val="c9c9ff"/>
              </a:gs>
            </a:gsLst>
            <a:lin ang="5400000"/>
          </a:gradFill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39"/>
          <p:cNvSpPr/>
          <p:nvPr/>
        </p:nvSpPr>
        <p:spPr>
          <a:xfrm>
            <a:off x="533520" y="11430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Progressive Era Legislation and Amendments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(continued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006560" y="1596960"/>
          <a:ext cx="7162560" cy="609840"/>
        </p:xfrm>
        <a:graphic>
          <a:graphicData uri="http://schemas.openxmlformats.org/drawingml/2006/table">
            <a:tbl>
              <a:tblPr/>
              <a:tblGrid>
                <a:gridCol w="2954160"/>
                <a:gridCol w="4208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Seventeenth Amendment</a:t>
                      </a: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Verdana"/>
                          <a:ea typeface="MS Pゴシック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(191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666699"/>
                      </a:solidFill>
                    </a:lnR>
                    <a:lnT>
                      <a:noFill/>
                    </a:lnT>
                    <a:lnB w="288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Provided for the direct election of Senators by the voters of each 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6666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66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1006560" y="2238480"/>
          <a:ext cx="7162560" cy="549000"/>
        </p:xfrm>
        <a:graphic>
          <a:graphicData uri="http://schemas.openxmlformats.org/drawingml/2006/table">
            <a:tbl>
              <a:tblPr/>
              <a:tblGrid>
                <a:gridCol w="2954160"/>
                <a:gridCol w="4208400"/>
              </a:tblGrid>
              <a:tr h="549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Underwood Tariff Act</a:t>
                      </a:r>
                      <a:br>
                        <a:rPr sz="16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(191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666699"/>
                      </a:solidFill>
                    </a:lnR>
                    <a:lnT>
                      <a:noFill/>
                    </a:lnT>
                    <a:lnB w="288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Lowered tariffs on imported goods, established a graduated income ta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6666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66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1006560" y="2816280"/>
          <a:ext cx="7162560" cy="622080"/>
        </p:xfrm>
        <a:graphic>
          <a:graphicData uri="http://schemas.openxmlformats.org/drawingml/2006/table">
            <a:tbl>
              <a:tblPr/>
              <a:tblGrid>
                <a:gridCol w="2954160"/>
                <a:gridCol w="4208400"/>
              </a:tblGrid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Federal Reserve Act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191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666699"/>
                      </a:solidFill>
                    </a:lnR>
                    <a:lnT>
                      <a:noFill/>
                    </a:lnT>
                    <a:lnB w="288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Created the Federal Reserve Board to oversee banks and reserve fu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6666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66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1006560" y="3519360"/>
          <a:ext cx="7162560" cy="595440"/>
        </p:xfrm>
        <a:graphic>
          <a:graphicData uri="http://schemas.openxmlformats.org/drawingml/2006/table">
            <a:tbl>
              <a:tblPr/>
              <a:tblGrid>
                <a:gridCol w="2954160"/>
                <a:gridCol w="4208400"/>
              </a:tblGrid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Federal Trade Commission Ac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(191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666699"/>
                      </a:solidFill>
                    </a:lnR>
                    <a:lnT>
                      <a:noFill/>
                    </a:lnT>
                    <a:lnB w="288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Established the Federal Trade Commission to monitor busin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6666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66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1006560" y="4098960"/>
          <a:ext cx="7162560" cy="614160"/>
        </p:xfrm>
        <a:graphic>
          <a:graphicData uri="http://schemas.openxmlformats.org/drawingml/2006/table">
            <a:tbl>
              <a:tblPr/>
              <a:tblGrid>
                <a:gridCol w="2954160"/>
                <a:gridCol w="4208400"/>
              </a:tblGrid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Clayton Antitrust Act</a:t>
                      </a:r>
                      <a:br>
                        <a:rPr sz="16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(191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666699"/>
                      </a:solidFill>
                    </a:lnR>
                    <a:lnT>
                      <a:noFill/>
                    </a:lnT>
                    <a:lnB w="288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Spelled out specific activities that businesses can not engage 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6666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66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1006560" y="4740120"/>
          <a:ext cx="7162560" cy="655920"/>
        </p:xfrm>
        <a:graphic>
          <a:graphicData uri="http://schemas.openxmlformats.org/drawingml/2006/table">
            <a:tbl>
              <a:tblPr/>
              <a:tblGrid>
                <a:gridCol w="2954160"/>
                <a:gridCol w="4208400"/>
              </a:tblGrid>
              <a:tr h="65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Eighteenth Amendmen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(191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666699"/>
                      </a:solidFill>
                    </a:lnR>
                    <a:lnT>
                      <a:noFill/>
                    </a:lnT>
                    <a:lnB w="288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Banned the making, selling, or transporting of alcoholic beverag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6666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66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1006560" y="5445000"/>
          <a:ext cx="7162560" cy="549360"/>
        </p:xfrm>
        <a:graphic>
          <a:graphicData uri="http://schemas.openxmlformats.org/drawingml/2006/table">
            <a:tbl>
              <a:tblPr/>
              <a:tblGrid>
                <a:gridCol w="2954160"/>
                <a:gridCol w="420840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Nineteenth Amendmen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(192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6666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Gave women the right to vote in all elec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6666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4495680" y="1279440"/>
            <a:ext cx="4038840" cy="46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Progressive management of natural resources has affected our environment including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national parks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dams, and fores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Aft>
                <a:spcPts val="2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Progressive legislation has profoundly affected our economy including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antitrust laws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the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Federal Reserve System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and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consumer protec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Aft>
                <a:spcPts val="2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Water distribution remains a hotly debated issu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914400" y="5118120"/>
            <a:ext cx="3048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esident Roosevelt and  conservationist John Muir at Yosemite National Park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8" descr="2668722"/>
          <p:cNvPicPr/>
          <p:nvPr/>
        </p:nvPicPr>
        <p:blipFill>
          <a:blip r:embed="rId1"/>
          <a:stretch/>
        </p:blipFill>
        <p:spPr>
          <a:xfrm>
            <a:off x="838080" y="1219320"/>
            <a:ext cx="307188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ounded Rectangle 9"/>
          <p:cNvSpPr/>
          <p:nvPr/>
        </p:nvSpPr>
        <p:spPr>
          <a:xfrm>
            <a:off x="1981080" y="3962520"/>
            <a:ext cx="6400800" cy="1447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000">
                  <a:alpha val="55294"/>
                </a:srgbClr>
              </a:gs>
              <a:gs pos="100000">
                <a:srgbClr val="e8eae9"/>
              </a:gs>
            </a:gsLst>
            <a:lin ang="13500000"/>
          </a:gradFill>
          <a:ln w="9360">
            <a:solidFill>
              <a:srgbClr val="ccccff"/>
            </a:solidFill>
            <a:miter/>
          </a:ln>
          <a:effectLst>
            <a:outerShdw dist="71785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Rounded Rectangle 7"/>
          <p:cNvSpPr/>
          <p:nvPr/>
        </p:nvSpPr>
        <p:spPr>
          <a:xfrm>
            <a:off x="762120" y="1676520"/>
            <a:ext cx="647676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dcdff">
                  <a:alpha val="62352"/>
                </a:srgbClr>
              </a:gs>
              <a:gs pos="100000">
                <a:srgbClr val="e8eae9"/>
              </a:gs>
            </a:gsLst>
            <a:lin ang="54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1066680" y="1812960"/>
            <a:ext cx="6096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Many issues remain today involving dishonest sellers, unfair employment practices, and problems in schools, cities, the environment, and public health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2330280" y="4175280"/>
            <a:ext cx="589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Progressives succeeded in establishing the idea that government can take action in these are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4"/>
          <p:cNvSpPr/>
          <p:nvPr/>
        </p:nvSpPr>
        <p:spPr>
          <a:xfrm>
            <a:off x="1685880" y="459432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Rectangle 20"/>
          <p:cNvSpPr/>
          <p:nvPr/>
        </p:nvSpPr>
        <p:spPr>
          <a:xfrm>
            <a:off x="455760" y="1370160"/>
            <a:ext cx="685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Objectiv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1135080" y="2209680"/>
            <a:ext cx="68738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lnSpc>
                <a:spcPct val="110000"/>
              </a:lnSpc>
              <a:spcAft>
                <a:spcPts val="16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valuate what Wilson hoped to do with his 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w Freedom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program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110000"/>
              </a:lnSpc>
              <a:spcAft>
                <a:spcPts val="16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scribe Wilson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 efforts to regulate the econom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110000"/>
              </a:lnSpc>
              <a:spcAft>
                <a:spcPts val="16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ssess the legacy of the Progressive Er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9"/>
          <p:cNvSpPr/>
          <p:nvPr/>
        </p:nvSpPr>
        <p:spPr>
          <a:xfrm>
            <a:off x="455760" y="1370160"/>
            <a:ext cx="7850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Terms and Peop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800280" y="2057400"/>
            <a:ext cx="7734240" cy="41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Aft>
                <a:spcPts val="110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Woodrow Wilson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Progressive Democrat elected President in 191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10000"/>
              </a:lnSpc>
              <a:spcAft>
                <a:spcPts val="110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New Freedom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Wilson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 program to place strict government controls on corpora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10000"/>
              </a:lnSpc>
              <a:spcAft>
                <a:spcPts val="110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Sixteenth Amendment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1913 constitutional amendment that gave Congress the power to impose an income tax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10000"/>
              </a:lnSpc>
              <a:spcAft>
                <a:spcPts val="110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Federal Reserve Act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1913 law that placed the national banks under the control of a Federal Reserve Boar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9"/>
          <p:cNvSpPr/>
          <p:nvPr/>
        </p:nvSpPr>
        <p:spPr>
          <a:xfrm>
            <a:off x="455760" y="137016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Terms and People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(continue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Rectangle 13"/>
          <p:cNvSpPr/>
          <p:nvPr/>
        </p:nvSpPr>
        <p:spPr>
          <a:xfrm>
            <a:off x="762120" y="2133720"/>
            <a:ext cx="7772400" cy="24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Aft>
                <a:spcPts val="110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Federal Trade Commission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(FTC)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government agency established in 1914 to identify monopolistic business practices, false advertising, and dishonest label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10000"/>
              </a:lnSpc>
              <a:spcAft>
                <a:spcPts val="110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Clayton Anti-trust Act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strengthened anti-trust laws by spelling out specific practices in which businesses could not engag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2"/>
          <p:cNvSpPr/>
          <p:nvPr/>
        </p:nvSpPr>
        <p:spPr>
          <a:xfrm>
            <a:off x="1371600" y="2971800"/>
            <a:ext cx="6477120" cy="26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Woodrow Wilson used the expanded power of the presidency to promote a far-reaching reform agenda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ome of Wilson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 economic and antitrust measures are still important in American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life toda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1" name="Group 4"/>
          <p:cNvGrpSpPr/>
          <p:nvPr/>
        </p:nvGrpSpPr>
        <p:grpSpPr>
          <a:xfrm>
            <a:off x="609480" y="1752480"/>
            <a:ext cx="7696440" cy="898200"/>
            <a:chOff x="609480" y="1752480"/>
            <a:chExt cx="7696440" cy="898200"/>
          </a:xfrm>
        </p:grpSpPr>
        <p:sp>
          <p:nvSpPr>
            <p:cNvPr id="62" name="Rectangle 11"/>
            <p:cNvSpPr/>
            <p:nvPr/>
          </p:nvSpPr>
          <p:spPr>
            <a:xfrm>
              <a:off x="1295280" y="1752480"/>
              <a:ext cx="7010640" cy="89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What steps did Wilson take to increase the government</a:t>
              </a:r>
              <a:r>
                <a:rPr b="1" lang="ja-JP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’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s role in the economy?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63" name="Picture 5" descr=""/>
            <p:cNvPicPr/>
            <p:nvPr/>
          </p:nvPicPr>
          <p:blipFill>
            <a:blip r:embed="rId1"/>
            <a:stretch/>
          </p:blipFill>
          <p:spPr>
            <a:xfrm>
              <a:off x="609480" y="1828440"/>
              <a:ext cx="523080" cy="554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2"/>
          <p:cNvSpPr/>
          <p:nvPr/>
        </p:nvSpPr>
        <p:spPr>
          <a:xfrm>
            <a:off x="1066680" y="1324080"/>
            <a:ext cx="7315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In 1912,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the Republican Party was split</a:t>
            </a:r>
            <a:r>
              <a:rPr b="0" lang="en-US" sz="2200" spc="-1" strike="noStrike">
                <a:solidFill>
                  <a:srgbClr val="0066cc"/>
                </a:solidFill>
                <a:latin typeface="Verdana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between Progressives who backed Theodore Roosevelt and those loyal to incumbent William Howard Taf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5029200" y="2971800"/>
            <a:ext cx="323676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he split allowed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Woodrow Wilson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the Democrat, to win easily in the Electoral College, though he did not receive a majority of the popular vote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" name="Picture 7" descr="2696038_edit"/>
          <p:cNvPicPr/>
          <p:nvPr/>
        </p:nvPicPr>
        <p:blipFill>
          <a:blip r:embed="rId1"/>
          <a:stretch/>
        </p:blipFill>
        <p:spPr>
          <a:xfrm>
            <a:off x="1854360" y="2666880"/>
            <a:ext cx="241272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1"/>
          <p:cNvSpPr/>
          <p:nvPr/>
        </p:nvSpPr>
        <p:spPr>
          <a:xfrm>
            <a:off x="1600200" y="1676520"/>
            <a:ext cx="5638680" cy="3886200"/>
          </a:xfrm>
          <a:prstGeom prst="rect">
            <a:avLst/>
          </a:prstGeom>
          <a:gradFill rotWithShape="0">
            <a:gsLst>
              <a:gs pos="0">
                <a:srgbClr val="e8eae9"/>
              </a:gs>
              <a:gs pos="100000">
                <a:srgbClr val="c9c9ff"/>
              </a:gs>
            </a:gsLst>
            <a:lin ang="5400000"/>
          </a:gradFill>
          <a:ln w="19080">
            <a:solidFill>
              <a:srgbClr val="666699"/>
            </a:solidFill>
            <a:miter/>
          </a:ln>
          <a:effectLst>
            <a:outerShdw dist="45929" dir="3371122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1676520" y="2362320"/>
            <a:ext cx="5410080" cy="29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Aft>
                <a:spcPts val="22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erved as a college professor and President of Princeton University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91960" indent="-291960">
              <a:spcAft>
                <a:spcPts val="22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erved as Governor of New Jersey with a reforming agend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91960" indent="-291960">
              <a:spcAft>
                <a:spcPts val="22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was the first man born in the South to be elected President in almost sixty yea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3086280" y="1752480"/>
            <a:ext cx="251712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Woodrow Wils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Straight Connector 7"/>
          <p:cNvSpPr/>
          <p:nvPr/>
        </p:nvSpPr>
        <p:spPr>
          <a:xfrm>
            <a:off x="1905120" y="2286000"/>
            <a:ext cx="5029200" cy="1440"/>
          </a:xfrm>
          <a:prstGeom prst="line">
            <a:avLst/>
          </a:prstGeom>
          <a:ln w="19080">
            <a:solidFill>
              <a:srgbClr val="ebe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5486400" y="3581280"/>
            <a:ext cx="2895480" cy="2133720"/>
          </a:xfrm>
          <a:prstGeom prst="rect">
            <a:avLst/>
          </a:prstGeom>
          <a:gradFill rotWithShape="0">
            <a:gsLst>
              <a:gs pos="0">
                <a:srgbClr val="ffcc66">
                  <a:alpha val="75294"/>
                </a:srgbClr>
              </a:gs>
              <a:gs pos="100000">
                <a:srgbClr val="e8eae9"/>
              </a:gs>
            </a:gsLst>
            <a:lin ang="54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AutoShape 5"/>
          <p:cNvSpPr/>
          <p:nvPr/>
        </p:nvSpPr>
        <p:spPr>
          <a:xfrm flipH="1" rot="5400000">
            <a:off x="2056680" y="2285280"/>
            <a:ext cx="2133720" cy="4724280"/>
          </a:xfrm>
          <a:prstGeom prst="upArrowCallout">
            <a:avLst>
              <a:gd name="adj1" fmla="val 30531"/>
              <a:gd name="adj2" fmla="val 26778"/>
              <a:gd name="adj3" fmla="val 25944"/>
              <a:gd name="adj4" fmla="val 30070"/>
            </a:avLst>
          </a:prstGeom>
          <a:gradFill rotWithShape="0">
            <a:gsLst>
              <a:gs pos="0">
                <a:srgbClr val="83d7e5"/>
              </a:gs>
              <a:gs pos="100000">
                <a:srgbClr val="e8eae9"/>
              </a:gs>
            </a:gsLst>
            <a:lin ang="108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914400" y="3809880"/>
            <a:ext cx="3886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Wilson promised to bring down the </a:t>
            </a:r>
            <a:r>
              <a:rPr b="0" lang="ja-JP" sz="2200" spc="-1" strike="noStrike">
                <a:solidFill>
                  <a:srgbClr val="0033cc"/>
                </a:solidFill>
                <a:latin typeface="Verdana"/>
                <a:ea typeface="Arial"/>
              </a:rPr>
              <a:t>“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triple wall of privilege,</a:t>
            </a:r>
            <a:r>
              <a:rPr b="0" lang="ja-JP" sz="2200" spc="-1" strike="noStrike">
                <a:solidFill>
                  <a:srgbClr val="0033cc"/>
                </a:solidFill>
                <a:latin typeface="Verdana"/>
                <a:ea typeface="Arial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tariffs, banks, and trus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5715000" y="3809880"/>
            <a:ext cx="2590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In 1913, the Underwood Tariff Act cut tariffs, leading to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lower consumer pric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685800" y="153972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Wilson felt that laws should not allow the strong to crush the weak. His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New Freedo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plan was similar to Roosevelt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 New Nationalism. It called for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strict government controls over corporation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AutoShape 6"/>
          <p:cNvSpPr/>
          <p:nvPr/>
        </p:nvSpPr>
        <p:spPr>
          <a:xfrm flipH="1" rot="10800000">
            <a:off x="991080" y="1294920"/>
            <a:ext cx="7085160" cy="2514600"/>
          </a:xfrm>
          <a:prstGeom prst="upArrowCallout">
            <a:avLst>
              <a:gd name="adj1" fmla="val 45764"/>
              <a:gd name="adj2" fmla="val 42368"/>
              <a:gd name="adj3" fmla="val 24505"/>
              <a:gd name="adj4" fmla="val 63206"/>
            </a:avLst>
          </a:prstGeom>
          <a:gradFill rotWithShape="0">
            <a:gsLst>
              <a:gs pos="0">
                <a:srgbClr val="cdcdff">
                  <a:alpha val="62352"/>
                </a:srgbClr>
              </a:gs>
              <a:gs pos="100000">
                <a:srgbClr val="e8eae9"/>
              </a:gs>
            </a:gsLst>
            <a:lin ang="162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1400040" y="1387440"/>
            <a:ext cx="6324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he Underwood Tariff Act also provided for the creation of a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graduated income tax,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first permitted in 1913, under the newly ratified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Sixteenth Amendment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1295280" y="3971880"/>
            <a:ext cx="6553440" cy="18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Progressives like Wilson felt it was only fair that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the wealthy should pay a higher percentage of their income in taxes than the poo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Revenues from the income tax more than offset the loss of funds from the lowered tariff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6T15:26:32Z</dcterms:created>
  <dc:creator>Sam Lewbel</dc:creator>
  <dc:description/>
  <dc:language>en-US</dc:language>
  <cp:lastModifiedBy>Mark Scacewater</cp:lastModifiedBy>
  <cp:lastPrinted>2008-05-21T18:42:16Z</cp:lastPrinted>
  <dcterms:modified xsi:type="dcterms:W3CDTF">2012-09-30T20:34:53Z</dcterms:modified>
  <cp:revision>19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